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E10-F4B0-4ED9-999C-423CC989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0CB-8405-4F1A-9364-A5D777A6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632-28A6-4E60-A332-B13122D7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ABE-58B8-4D33-8AFB-8ED02DC0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A34-EC88-48D7-8D30-683626D3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754-4B30-4ED5-ABDD-5070C793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3FF-DD56-45F1-A9C9-CA6201E9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333-088A-4DA7-9E61-774D584C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2D1-7A66-4C16-80C4-099769BD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01DB-64CE-4150-892B-F7C2CBCA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BE4-468E-4FBA-94D4-24992539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AB8-7EA3-4A3D-ABC1-48AFA157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25AA-DBCE-4DEE-BDBC-A5815B548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/missouri/" TargetMode="External"/><Relationship Id="rId2" Type="http://schemas.openxmlformats.org/officeDocument/2006/relationships/hyperlink" Target="http://www.enchantedlearning.com/subjects/birds/printouts/Easternbluebird.shtm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bensguide.gpo.gov/3-5/state/missouri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53080" y="4800600"/>
            <a:ext cx="2210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971800">
            <a:off x="760320" y="1177560"/>
            <a:ext cx="6626160" cy="30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381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issouri</a:t>
            </a:r>
            <a:endParaRPr b="0" lang="en-US" sz="4000" spc="1" strike="noStrike">
              <a:ln w="381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0010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7.88159E-006 L -0.74618 0.8587 L -0.75087 0.60662 L -0.6217 0.17831 L -0.44931 0.8217 L -0.25694 0.52267 L -0.59722 0.14339 L -0.83854 0.36888 L -0.12934 0.07586 L -0.17552 0.5717 L -0.26319 0.82586 L -0.58316 0.79904 L -0.6908 0.58211 L -0.29861 0.19682 L -3.05556E-006 7.88159E-006 Z">
                                      <p:cBhvr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76411E-006 L 0.1276 -0.03677 L 0.18454 -0.04903 L 0.28611 0.0636 L 0.36145 0.03076 L 0.43211 0.0185 L 0.5 0.00625 L 0.55989 -0.00809 L 0.60746 -0.02035 L 0.63993 -0.02659 L 0.66145 -0.16582 L 0.79843 -0.21091 L 0.86597 0.24815 L 0.71684 0.21323 L 0.63993 0.2359 L 0.60156 0.23775 L 0.5585 0.26249 L 0.47222 0.28469 L 0.38003 0.31129 L 0.29392 0.32586 L 0.22448 0.32979 L 0.17083 0.34829 L 0.1092 0.35662 L 0.05382 0.38136 L 0.03854 0.47318 L -0.03855 -0.00809 L 0 -4.76411E-006 Z">
                                      <p:cBhvr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SimSun"/>
              </a:rPr>
              <a:t>Capital</a:t>
            </a:r>
            <a:r>
              <a:rPr b="0" lang="en-US" sz="4000" spc="-1" strike="noStrike">
                <a:solidFill>
                  <a:srgbClr val="000000"/>
                </a:solidFill>
                <a:latin typeface="SimSun"/>
              </a:rPr>
              <a:t> –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SimSun"/>
              </a:rPr>
              <a:t>Jefferson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SimSun"/>
              </a:rPr>
              <a:t>Population </a:t>
            </a:r>
            <a:r>
              <a:rPr b="0" lang="en-US" sz="4000" spc="-1" strike="noStrike">
                <a:solidFill>
                  <a:srgbClr val="000000"/>
                </a:solidFill>
                <a:latin typeface="SimSun"/>
              </a:rPr>
              <a:t>– </a:t>
            </a:r>
            <a:r>
              <a:rPr b="1" i="1" lang="en-US" sz="4000" spc="-1" strike="noStrike">
                <a:solidFill>
                  <a:srgbClr val="000000"/>
                </a:solidFill>
                <a:latin typeface="SimSun"/>
              </a:rPr>
              <a:t>5,595,2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SimSun"/>
              </a:rPr>
              <a:t>Entered the Union </a:t>
            </a:r>
            <a:r>
              <a:rPr b="0" lang="en-US" sz="4000" spc="-1" strike="noStrike">
                <a:solidFill>
                  <a:srgbClr val="000000"/>
                </a:solidFill>
                <a:latin typeface="SimSun"/>
              </a:rPr>
              <a:t>–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SimSun"/>
              </a:rPr>
              <a:t>9/10/18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SimSun"/>
              </a:rPr>
              <a:t>Number of the Union </a:t>
            </a:r>
            <a:r>
              <a:rPr b="0" lang="en-US" sz="4000" spc="-1" strike="noStrike">
                <a:solidFill>
                  <a:srgbClr val="000000"/>
                </a:solidFill>
                <a:latin typeface="SimSun"/>
              </a:rPr>
              <a:t>– </a:t>
            </a:r>
            <a:r>
              <a:rPr b="1" i="1" lang="en-US" sz="4000" spc="-1" strike="noStrike">
                <a:solidFill>
                  <a:srgbClr val="000000"/>
                </a:solidFill>
                <a:latin typeface="SimSu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17 0.70907 L 0.7092 0.00833 L 0 0 Z">
                                      <p:cBhvr>
                                        <p:cTn id="5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17 0.70907 L 0.7092 0.00833 L 0 0 Z">
                                      <p:cBhvr>
                                        <p:cTn id="61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17 0.70907 L 0.7092 0.00833 L 0 0 Z">
                                      <p:cBhvr>
                                        <p:cTn id="65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17 0.70907 L 0.7092 0.00833 L 0 0 Z">
                                      <p:cBhvr>
                                        <p:cTn id="69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d2d2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1cd2d2"/>
                </a:solidFill>
                <a:uFillTx/>
                <a:latin typeface="SimSun"/>
              </a:rPr>
              <a:t>Motto – The Welfare of the People Shall be the Supreme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d2d2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1cd2d2"/>
                </a:solidFill>
                <a:uFillTx/>
                <a:latin typeface="SimSun"/>
              </a:rPr>
              <a:t>Nickname – The Show Me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All images Copyright © 1997 - 2000 WriteLine. All Rights Reserved. Saint Louis Arch"/>
          <p:cNvPicPr/>
          <p:nvPr/>
        </p:nvPicPr>
        <p:blipFill>
          <a:blip r:embed="rId1"/>
          <a:stretch/>
        </p:blipFill>
        <p:spPr>
          <a:xfrm>
            <a:off x="304920" y="335268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91320" y="44956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35268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. Louis Arch, Missour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stcardsfrom.com/t1/99101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077 0.84644 L 0.86927 0.84228 L 0.85694 0 L 0 0 Z">
                                      <p:cBhvr>
                                        <p:cTn id="11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077 0.84644 L 0.86927 0.84228 L 0.85694 0 L 0 0 Z">
                                      <p:cBhvr>
                                        <p:cTn id="114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-2.13873E-006 L 0.22535 -2.13873E-006 L 0.45087 -2.13873E-006 L 0.45087 0.19885 L 0.44757 0.39746 L 0.22865 0.39746 L 0.00157 0.39746 L -0.00312 0.20093 L 0.22379 -0.04231 L -2.77556E-017 -2.13873E-006 Z">
                                      <p:cBhvr>
                                        <p:cTn id="11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imSun"/>
              </a:rPr>
              <a:t>State Flower – Hawthorn (crataeg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cc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SimSun"/>
              </a:rPr>
              <a:t>Song – Missouri Waltz, Words by : J. R. Shannon, Music by : John V. Epp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Agency FB"/>
              </a:rPr>
              <a:t>State Bird – Blue Bi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191120"/>
            <a:ext cx="3886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sour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nchantedlearning.com/usa/states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1954800">
            <a:off x="2743200" y="5105160"/>
            <a:ext cx="1600200" cy="1468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iddle"/>
          <p:cNvPicPr/>
          <p:nvPr/>
        </p:nvPicPr>
        <p:blipFill>
          <a:blip r:embed="rId4"/>
          <a:stretch/>
        </p:blipFill>
        <p:spPr>
          <a:xfrm>
            <a:off x="4419720" y="3124080"/>
            <a:ext cx="1371600" cy="77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56337E-006 L -0.15834 -0.08395 L -0.15677 -0.11887 L -0.37535 -0.25208 L -0.38455 -0.29093 L -0.36302 -0.49375 L 0.05538 -0.32377 L 0.05538 -0.36887 L -0.38143 -0.53469 L -0.3783 -0.57585 L -0.38299 -0.67206 L -0.37986 -0.71114 L -0.37986 -0.74583 L -0.32761 -0.71508 L -0.3323 -0.53284 L -0.13837 -0.52243 L 0.07395 -0.71299 L 0.51076 -0.43848 L 0.50781 -0.41188 L -0.13681 -0.32978 L -0.13993 -0.41397 L -0.21528 -0.4364 L -0.21372 -0.4179 L -0.33681 -0.23566 L -0.03837 0.0451 E">
                                      <p:cBhvr>
                                        <p:cTn id="20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SimSun"/>
              </a:rPr>
              <a:t>State Mineral – L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SimSun"/>
              </a:rPr>
              <a:t>Harry Truman’s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SimSun"/>
              </a:rPr>
              <a:t>Daniel Boone’s Home</a:t>
            </a:r>
            <a:r>
              <a:rPr b="0" lang="en-US" sz="4000" spc="-1" strike="noStrike">
                <a:solidFill>
                  <a:srgbClr val="000000"/>
                </a:solidFill>
                <a:latin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Missouri: Map and State Flag"/>
          <p:cNvPicPr/>
          <p:nvPr/>
        </p:nvPicPr>
        <p:blipFill>
          <a:blip r:embed="rId1"/>
          <a:srcRect l="2781" t="0" r="2781" b="65066"/>
          <a:stretch/>
        </p:blipFill>
        <p:spPr>
          <a:xfrm>
            <a:off x="1219320" y="762120"/>
            <a:ext cx="259056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91120" y="838080"/>
            <a:ext cx="4419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 : Missour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ensguide.gpo.gov/3-5/state/missour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43000" y="2606760"/>
            <a:ext cx="3809880" cy="339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29200" y="2971800"/>
            <a:ext cx="3657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sour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/2011, http://www.enchantedlearning.com/usa/states/missou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14800" y="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Jewel Box, Forest Pa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sour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/2011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ostcardsfrom.com/t1/99101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All images Copyright © 1997 - 2000 WriteLine. All Rights Reserved. conservatory"/>
          <p:cNvPicPr/>
          <p:nvPr/>
        </p:nvPicPr>
        <p:blipFill>
          <a:blip r:embed="rId1"/>
          <a:stretch/>
        </p:blipFill>
        <p:spPr>
          <a:xfrm>
            <a:off x="304920" y="1219320"/>
            <a:ext cx="8076960" cy="5384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true beauty of Missouri! This shows us Nature’s Ge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33:51Z</dcterms:created>
  <dc:creator>install</dc:creator>
  <dc:description/>
  <dc:language>en-US</dc:language>
  <cp:lastModifiedBy>install</cp:lastModifiedBy>
  <dcterms:modified xsi:type="dcterms:W3CDTF">2011-03-16T15:55:26Z</dcterms:modified>
  <cp:revision>15</cp:revision>
  <dc:subject/>
  <dc:title>Slide 1</dc:title>
</cp:coreProperties>
</file>